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BEC-E1E8-4E58-8011-53B4F0E2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2C2-68EF-476D-A313-C93C609F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C4E-0AB6-4A0B-B870-BA7B207C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016-2132-4D36-B9E7-022D6786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17A7-13EE-46C1-9FA4-0100955F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B92A-4440-4932-86D7-D472E62B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7F86-F1BC-4D91-A048-439892DD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89BC-3FE4-4F07-AB75-8C9B0611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0D6D-BB6B-4E08-93C9-A9364C15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69C4-6933-4A09-B5BE-41CD6367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3385-A844-4C4A-B66E-79287248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E58-F2B6-49B4-9C42-99242959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9713-4444-4FBE-9EC7-3C1780A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B401-EC7D-4D88-90A4-D77706F5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3CD2-744A-445B-820B-85E61087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314D-B8CD-4881-8D56-CB022546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C833-BA77-4E93-AAF0-57728E62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0E4-1EC1-4F23-9A25-F7A9D3E7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04A-C663-4014-A43A-6D6B7AC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26A-D91B-4670-A86E-6B54F193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A91-C2F6-404B-8545-61E3D835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2ABB-0B1A-4E39-AE05-57C24079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263-BA81-44E2-B454-8E7272BC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F12-7191-4114-AC71-30845558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EDE8-556F-4C0D-9A51-5F4086BC9049}" type="slidenum">
              <a:rPr b="0" lang="ro-RO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B4BE-8428-4F83-8028-CF1C68491383}" type="slidenum">
              <a:rPr b="0" lang="ro-RO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.C. Calculatorul SRL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6198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ecff"/>
                </a:solidFill>
                <a:latin typeface="Arial"/>
              </a:rPr>
              <a:t>Organigrama societăț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8360" y="1628640"/>
            <a:ext cx="8208360" cy="4462920"/>
            <a:chOff x="468360" y="1628640"/>
            <a:chExt cx="8208360" cy="4462920"/>
          </a:xfrm>
        </p:grpSpPr>
        <p:cxnSp>
          <p:nvCxnSpPr>
            <p:cNvPr id="160" name="_s3085"/>
            <p:cNvCxnSpPr>
              <a:stCxn id="161" idx="0"/>
              <a:endCxn id="162" idx="2"/>
            </p:cNvCxnSpPr>
            <p:nvPr/>
          </p:nvCxnSpPr>
          <p:spPr>
            <a:xfrm flipV="1" rot="16200000">
              <a:off x="5562360" y="242280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3" name="_s3084"/>
            <p:cNvCxnSpPr>
              <a:stCxn id="164" idx="0"/>
              <a:endCxn id="162" idx="1"/>
            </p:cNvCxnSpPr>
            <p:nvPr/>
          </p:nvCxnSpPr>
          <p:spPr>
            <a:xfrm flipV="1">
              <a:off x="4572720" y="3413160"/>
              <a:ext cx="3600" cy="8931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5" name="_s3083"/>
            <p:cNvCxnSpPr>
              <a:stCxn id="166" idx="0"/>
              <a:endCxn id="162" idx="0"/>
            </p:cNvCxnSpPr>
            <p:nvPr/>
          </p:nvCxnSpPr>
          <p:spPr>
            <a:xfrm flipH="1" flipV="1" rot="5400000">
              <a:off x="2689560" y="2423160"/>
              <a:ext cx="893160" cy="2873520"/>
            </a:xfrm>
            <a:prstGeom prst="bentConnector3">
              <a:avLst>
                <a:gd name="adj1" fmla="val 12782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62" name="_s3079"/>
            <p:cNvSpPr/>
            <p:nvPr/>
          </p:nvSpPr>
          <p:spPr>
            <a:xfrm>
              <a:off x="3341160" y="1628640"/>
              <a:ext cx="2462400" cy="1785240"/>
            </a:xfrm>
            <a:prstGeom prst="bevel">
              <a:avLst>
                <a:gd name="adj" fmla="val 12500"/>
              </a:avLst>
            </a:prstGeom>
            <a:solidFill>
              <a:srgbClr val="33cccc">
                <a:alpha val="50000"/>
              </a:srgbClr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anager unita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3080"/>
            <p:cNvSpPr/>
            <p:nvPr/>
          </p:nvSpPr>
          <p:spPr>
            <a:xfrm>
              <a:off x="468360" y="4306320"/>
              <a:ext cx="2462400" cy="1785240"/>
            </a:xfrm>
            <a:prstGeom prst="bevel">
              <a:avLst>
                <a:gd name="adj" fmla="val 12500"/>
              </a:avLst>
            </a:prstGeom>
            <a:solidFill>
              <a:srgbClr val="66ccff">
                <a:alpha val="50000"/>
              </a:srgbClr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irecto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arket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3081"/>
            <p:cNvSpPr/>
            <p:nvPr/>
          </p:nvSpPr>
          <p:spPr>
            <a:xfrm>
              <a:off x="3341160" y="4306320"/>
              <a:ext cx="2462400" cy="1785240"/>
            </a:xfrm>
            <a:prstGeom prst="bevel">
              <a:avLst>
                <a:gd name="adj" fmla="val 12500"/>
              </a:avLst>
            </a:prstGeom>
            <a:solidFill>
              <a:srgbClr val="66ccff">
                <a:alpha val="50000"/>
              </a:srgbClr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irecto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surse uman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3082"/>
            <p:cNvSpPr/>
            <p:nvPr/>
          </p:nvSpPr>
          <p:spPr>
            <a:xfrm>
              <a:off x="6214320" y="4306320"/>
              <a:ext cx="2462400" cy="1785240"/>
            </a:xfrm>
            <a:prstGeom prst="bevel">
              <a:avLst>
                <a:gd name="adj" fmla="val 12500"/>
              </a:avLst>
            </a:prstGeom>
            <a:solidFill>
              <a:srgbClr val="66ccff">
                <a:alpha val="50000"/>
              </a:srgbClr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irecto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conomic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agini calculatoa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44720" y="2719440"/>
            <a:ext cx="2904840" cy="2233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438880" y="2065320"/>
            <a:ext cx="280980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ferta lunii April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Imprimante – 20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Monitoare – 15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Mouse – 10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Multifuncționale – 10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Scanner – 25% reduc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Adres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Loc. Cluj Napo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Str. Avram Iancu Nr. 2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cod. 4074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jud. Clu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Tel. 026412345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o-RO" sz="3200" spc="-1" strike="noStrike">
                <a:solidFill>
                  <a:srgbClr val="ffffff"/>
                </a:solidFill>
                <a:latin typeface="Verdana"/>
              </a:rPr>
              <a:t>emai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etter"/>
          <p:cNvSpPr/>
          <p:nvPr/>
        </p:nvSpPr>
        <p:spPr>
          <a:xfrm>
            <a:off x="2771640" y="5157720"/>
            <a:ext cx="1800360" cy="792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9:41:46Z</dcterms:created>
  <dc:creator>AS</dc:creator>
  <dc:description/>
  <dc:language>en-US</dc:language>
  <cp:lastModifiedBy>AS</cp:lastModifiedBy>
  <dcterms:modified xsi:type="dcterms:W3CDTF">2010-01-06T21:52:32Z</dcterms:modified>
  <cp:revision>6</cp:revision>
  <dc:subject/>
  <dc:title>S.C. Calculatorul SRL</dc:title>
</cp:coreProperties>
</file>